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8D4-B8B7-43D1-9F69-575A7C32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B7C-5D74-494C-BBDE-40519025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27D-58F2-46D1-AACC-5F1C4AE6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EDE-F092-4EB5-97CA-EE685C40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8D8-F3A7-4142-8C79-CF032A50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723-2579-475C-80BD-614ED3A1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08C-886A-4155-93A1-94B9FE4F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9E1-6C27-4A1B-86EF-B770649A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268-28DB-467F-9259-D87317BC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F6E-8B80-4A9A-94AE-A65FE56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5EE-9683-4140-988D-72082E95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20D-7792-4EAA-87CC-0BF81701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9516-3E3E-4EC6-A874-58796CE0C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s and 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AutoShape 7"/>
          <p:cNvCxnSpPr/>
          <p:nvPr/>
        </p:nvCxnSpPr>
        <p:spPr>
          <a:xfrm>
            <a:off x="1676520" y="521928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" name="Line 10"/>
          <p:cNvSpPr/>
          <p:nvPr/>
        </p:nvSpPr>
        <p:spPr>
          <a:xfrm>
            <a:off x="1676520" y="4991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3048120" y="4991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"/>
          <p:cNvPicPr/>
          <p:nvPr/>
        </p:nvPicPr>
        <p:blipFill>
          <a:blip r:embed="rId1"/>
          <a:stretch/>
        </p:blipFill>
        <p:spPr>
          <a:xfrm>
            <a:off x="6629400" y="4533840"/>
            <a:ext cx="1447920" cy="143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"/>
          <p:cNvPicPr/>
          <p:nvPr/>
        </p:nvPicPr>
        <p:blipFill>
          <a:blip r:embed="rId2"/>
          <a:stretch/>
        </p:blipFill>
        <p:spPr>
          <a:xfrm>
            <a:off x="1066680" y="4457880"/>
            <a:ext cx="2133720" cy="1877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4"/>
          <p:cNvSpPr/>
          <p:nvPr/>
        </p:nvSpPr>
        <p:spPr>
          <a:xfrm>
            <a:off x="76212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Read my Jigsaw Chapter: 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merican Typewriter"/>
              </a:rPr>
              <a:t>Yes____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</a:rPr>
              <a:t>No____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(check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it come to thi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9"/>
          <p:cNvGrpSpPr/>
          <p:nvPr/>
        </p:nvGrpSpPr>
        <p:grpSpPr>
          <a:xfrm>
            <a:off x="723960" y="2743200"/>
            <a:ext cx="7695720" cy="685440"/>
            <a:chOff x="723960" y="2743200"/>
            <a:chExt cx="7695720" cy="685440"/>
          </a:xfrm>
        </p:grpSpPr>
        <p:sp>
          <p:nvSpPr>
            <p:cNvPr id="50" name="WordArt 5"/>
            <p:cNvSpPr txBox="1"/>
            <p:nvPr/>
          </p:nvSpPr>
          <p:spPr>
            <a:xfrm>
              <a:off x="723960" y="2743200"/>
              <a:ext cx="3735000" cy="62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Arial"/>
                </a:rPr>
                <a:t>Cognitive Processes  =&gt;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1" name="WordArt 6"/>
            <p:cNvSpPr txBox="1"/>
            <p:nvPr/>
          </p:nvSpPr>
          <p:spPr>
            <a:xfrm>
              <a:off x="4798080" y="2743200"/>
              <a:ext cx="3621600" cy="68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Times New Roman"/>
                </a:rPr>
                <a:t>Self Monitoring Learners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2" name="WordArt 7"/>
          <p:cNvSpPr txBox="1"/>
          <p:nvPr/>
        </p:nvSpPr>
        <p:spPr>
          <a:xfrm>
            <a:off x="1473120" y="1981080"/>
            <a:ext cx="61977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Active Construction of Understand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sp>
          <p:nvSpPr>
            <p:cNvPr id="54" name="WordArt 8"/>
            <p:cNvSpPr txBox="1"/>
            <p:nvPr/>
          </p:nvSpPr>
          <p:spPr>
            <a:xfrm>
              <a:off x="2857680" y="3657600"/>
              <a:ext cx="3429000" cy="79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Times New Roman"/>
                </a:rPr>
                <a:t>Feedback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55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4681440"/>
              <a:ext cx="236232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4" descr=""/>
            <p:cNvPicPr/>
            <p:nvPr/>
          </p:nvPicPr>
          <p:blipFill>
            <a:blip r:embed="rId2"/>
            <a:stretch/>
          </p:blipFill>
          <p:spPr>
            <a:xfrm>
              <a:off x="2286000" y="4692600"/>
              <a:ext cx="304812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5" descr=""/>
            <p:cNvPicPr/>
            <p:nvPr/>
          </p:nvPicPr>
          <p:blipFill>
            <a:blip r:embed="rId3"/>
            <a:stretch/>
          </p:blipFill>
          <p:spPr>
            <a:xfrm>
              <a:off x="5334120" y="4678200"/>
              <a:ext cx="3809880" cy="217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ation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540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lists </a:t>
            </a:r>
            <a:r>
              <a:rPr b="0" lang="en-US" sz="4800" spc="-1" strike="noStrike">
                <a:solidFill>
                  <a:srgbClr val="000000"/>
                </a:solidFill>
                <a:latin typeface="Charco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ng Scales    ____|____|____|____|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143000" cy="77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421160" y="426708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2          3 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ecklist is a set of specific key behaviors that represent the competency or activity of intere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s should be concrete and observ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s are either present or abs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lists may be scored (yes: +1,   no: 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6858000" y="4724280"/>
            <a:ext cx="1446120" cy="1495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52040" y="6170760"/>
            <a:ext cx="57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dler, M. (1999). Classroom Assessment and Learning.  Lon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eckli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752480" y="4511520"/>
            <a:ext cx="56390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e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ine of para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single to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in logical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 suppor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your targ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effective paragraph constru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a list of observable component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nge the components in a logical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se a simp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present / abse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rk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ng scales are used when characteristics or dimensions of performance or product can be identified and exist to a greater or lesser degre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ly those behaviors that you will t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each item to a single dimension of the performance or produ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judgmental terms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ly pivotal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41360" y="63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54200" y="6170760"/>
            <a:ext cx="67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dler, M. (1999). Classroom Assessment and Learning.  New York: Long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68240" y="640080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se, C. (1999).  Contemporary Assessment for Educat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York: Long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7010280" y="4876920"/>
            <a:ext cx="8035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ng scales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ays of literary critic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13716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971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4038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029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172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7238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3880" y="3276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066680" y="358128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ptional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dequate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Limited            hu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chievement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Ev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1523880" y="5410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1905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4191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5181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9"/>
          <p:cNvSpPr/>
          <p:nvPr/>
        </p:nvSpPr>
        <p:spPr>
          <a:xfrm>
            <a:off x="6324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73915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1676520" y="5638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1219320" y="594360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ptional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dequate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Limited            hu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chievement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Ev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885240" y="2193840"/>
            <a:ext cx="76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reasons and specific evidence to support  the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974880" y="46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6"/>
          <p:cNvSpPr/>
          <p:nvPr/>
        </p:nvSpPr>
        <p:spPr>
          <a:xfrm>
            <a:off x="1510200" y="4724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and discusses alternatives points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15:27:32Z</dcterms:created>
  <dc:creator>Mark Roddy</dc:creator>
  <dc:description/>
  <dc:language>en-US</dc:language>
  <cp:lastModifiedBy>Seattle University</cp:lastModifiedBy>
  <cp:lastPrinted>2004-10-11T18:35:01Z</cp:lastPrinted>
  <dcterms:modified xsi:type="dcterms:W3CDTF">2009-02-18T16:10:08Z</dcterms:modified>
  <cp:revision>24</cp:revision>
  <dc:subject/>
  <dc:title>Checklists and Rating Scales</dc:title>
</cp:coreProperties>
</file>